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A68-71A4-47DD-B919-BBD0E015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FA7-6CDA-44D8-BC0A-46C5B2C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667-92D1-4AF0-9A53-A0966F89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14A-7B3B-4AA0-9FB6-55A6153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BB2-D290-41FF-B8B5-71B804BC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48C-7CC4-4F90-9798-9C47F51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E61-2F12-4C82-BCED-AA15D1E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B68-5F3F-4C63-8622-4377616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046-1A1B-46DA-B08B-8577D93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C4-2553-4AAB-BB7D-AD794FA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456-F7D6-4BA9-889F-90288F0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7F3-E220-455D-A1FC-F07A6BA1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CFCD-A0B9-42F8-8D07-8E4B29605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623680" y="4859280"/>
          <a:ext cx="66103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3680" y="4859280"/>
                    <a:ext cx="66103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89880" y="171000"/>
            <a:ext cx="8362440" cy="6046200"/>
            <a:chOff x="389880" y="171000"/>
            <a:chExt cx="8362440" cy="6046200"/>
          </a:xfrm>
        </p:grpSpPr>
        <p:sp>
          <p:nvSpPr>
            <p:cNvPr id="44" name="_s2065"/>
            <p:cNvSpPr/>
            <p:nvPr/>
          </p:nvSpPr>
          <p:spPr>
            <a:xfrm flipV="1">
              <a:off x="4571640" y="1799280"/>
              <a:ext cx="0" cy="8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4"/>
            <p:cNvSpPr/>
            <p:nvPr/>
          </p:nvSpPr>
          <p:spPr>
            <a:xfrm>
              <a:off x="3485880" y="171000"/>
              <a:ext cx="2171160" cy="1628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are als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ocr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1"/>
            <p:cNvSpPr/>
            <p:nvPr/>
          </p:nvSpPr>
          <p:spPr>
            <a:xfrm flipV="1">
              <a:off x="5603400" y="2923920"/>
              <a:ext cx="103140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0"/>
            <p:cNvSpPr/>
            <p:nvPr/>
          </p:nvSpPr>
          <p:spPr>
            <a:xfrm>
              <a:off x="6581160" y="1856880"/>
              <a:ext cx="2171160" cy="1629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dress normal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ke anybody 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9"/>
            <p:cNvSpPr/>
            <p:nvPr/>
          </p:nvSpPr>
          <p:spPr>
            <a:xfrm>
              <a:off x="5209560" y="4086000"/>
              <a:ext cx="6382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8"/>
            <p:cNvSpPr/>
            <p:nvPr/>
          </p:nvSpPr>
          <p:spPr>
            <a:xfrm>
              <a:off x="5400360" y="4588200"/>
              <a:ext cx="2171160" cy="1629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most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sellign drug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 lo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a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3"/>
            <p:cNvSpPr/>
            <p:nvPr/>
          </p:nvSpPr>
          <p:spPr>
            <a:xfrm flipH="1">
              <a:off x="3298320" y="4086000"/>
              <a:ext cx="63396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2"/>
            <p:cNvSpPr/>
            <p:nvPr/>
          </p:nvSpPr>
          <p:spPr>
            <a:xfrm>
              <a:off x="1571400" y="4588200"/>
              <a:ext cx="2171160" cy="16290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are democra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7"/>
            <p:cNvSpPr/>
            <p:nvPr/>
          </p:nvSpPr>
          <p:spPr>
            <a:xfrm flipH="1" flipV="1">
              <a:off x="2510640" y="2926080"/>
              <a:ext cx="102852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6"/>
            <p:cNvSpPr/>
            <p:nvPr/>
          </p:nvSpPr>
          <p:spPr>
            <a:xfrm>
              <a:off x="389880" y="1856880"/>
              <a:ext cx="2171160" cy="16290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me of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gs are w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t, coca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5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9:34:26Z</dcterms:created>
  <dc:creator>teacher</dc:creator>
  <dc:description/>
  <dc:language>en-US</dc:language>
  <cp:lastModifiedBy>teacher</cp:lastModifiedBy>
  <dcterms:modified xsi:type="dcterms:W3CDTF">2010-05-06T19:54:24Z</dcterms:modified>
  <cp:revision>3</cp:revision>
  <dc:subject/>
  <dc:title>Slide 1</dc:title>
</cp:coreProperties>
</file>